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BE6-0FC5-4D5E-AE3B-284F580A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E10-A149-4A45-8846-33BD4133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2C6D-77D7-4CEF-ADA6-F0E7A5C5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EF0C-4078-4823-9FCE-F97DC504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5F8B-1E13-4F8E-83E6-5C94834E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266B-B5B8-47F1-B8A0-86A6E76C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FEA2-DD37-4FBE-B899-B6B739CE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6458-1E2F-4400-B3FB-2599C737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31D-1225-4965-B09D-AABE5504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316-F552-4AA6-86A1-4720B689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36F3-7028-4191-B867-BB535A60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3523-1DC2-4291-ABE3-EFB58CBE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E2C4-0D49-4E0D-A2E2-EE0589B3D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Loss Reserve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Upgrades - A Pervasive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705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ebunk a critical loss reserving myth involving loss reserve upgrades that is pervasive in the insurance industry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Visit the abovementioned URL for a simple arithmetic proof of the above mentioned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ading the following related paper may also prove use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Will Your Next Reserve Increase Be Your Last”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by Prof. Ben Zehnwirth, Dr Julie Sims and Mark Shapland, published i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CONTINGENCIES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the publication by the American Academy of Actuaries in the Jan/Feb 2004 issue on Page 40-44 (P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ig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 reserve upgrades means that the company is (and has been) under-reserved and a significant increas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a big hit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n reserves means no subsequent reserve increases will b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ealit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understanding of the reserving process contradicts a very simple arithmetic truism. Repea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 upgrades does not mean under-reserving. Indeed, the converse may be true.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s are not increased annually then the company is likely to be under-reserv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883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serveincreases%20-%20part%20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2517480"/>
          </a:xfrm>
          <a:prstGeom prst="rect">
            <a:avLst/>
          </a:prstGeom>
          <a:ln w="0">
            <a:noFill/>
          </a:ln>
        </p:spPr>
      </p:pic>
      <p:pic>
        <p:nvPicPr>
          <p:cNvPr id="49" name="Reserveincreases%20-%20part%203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serveincreases%20-%20part%20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es this mean in terms of loss reserving each year? The following are simple arithmetic fac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total reserv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premium (price)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The ultimates for prior accident years will remain consistent with each increase in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reserves.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ltimates increas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 from one accident year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principal reason for these facts is that calendar year inflation projects both onto the accident years and development years- it also impacts all prior accident years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increases in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each year should not be regarded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If my costs in running my business increase by 5% each year I should at least increase the price of my product by 5% to stay even. I do not regard this increase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On the contrary, if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are not increased by at least 5% each year the company will be under reserved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at the 5% increase applies to the premium and ultimates from year to year is obvious. That it applies to the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(and still maintaining consistent prior accident year ultimates) may not be so obvious, to some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 have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ed long tail liabilities from all over the planet. I have measured total inflation (economic and social) in excess of 15% per year on average for 20 years for some portfolios. So we now know why many companies have failed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11:05Z</dcterms:created>
  <dc:creator>Nikolai Volodin</dc:creator>
  <dc:description/>
  <dc:language>en-US</dc:language>
  <cp:lastModifiedBy>BenZ</cp:lastModifiedBy>
  <dcterms:modified xsi:type="dcterms:W3CDTF">2005-09-21T20:05:45Z</dcterms:modified>
  <cp:revision>3</cp:revision>
  <dc:subject/>
  <dc:title>Loss Reseverve Upgrages - A Pervasive Myth </dc:title>
</cp:coreProperties>
</file>